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0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85B2-9B9C-4957-8C00-FB97C5A9D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5292-88E3-4F97-B2CC-FA50D3FAF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ED39-BDE5-40D7-8E67-62F4E1418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75B9-3D78-4E8A-8831-113F5E799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3390-ABF4-4C72-A87F-9C8AAE4C552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2AA1-3AB7-47D5-8058-82998C2E361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interact with the U2700 modules through a familiar, instrument-like interface. Starting at the left and rotating counterclockwise, the examples shown here are the function generator, oscilloscope, switch matrix and source/measure unit. Each instrument has its own window so all can be quickly accessed to change settings, view readings or analyze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C32B-FFA1-4930-8BDE-16A5AF0E7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98D8-F049-42CA-9CC5-CACF90D18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B996-4A0A-4F8E-A28E-A95913177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842E-B05E-4E28-8000-BE437E8DD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B72C-2D21-4D10-AE09-58471E3DE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97A09-6D4C-4884-9844-596E72BA67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BBD45-0B99-4194-9FB4-5D9065E0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7EE64-EF1E-456B-BEE9-2E7930DF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0C659-F7A8-44F5-AC21-2B59ED1511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A0F8-BD35-4B33-9B9E-FA8B877DA7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10B0-94FE-45FA-AD69-B080F0DE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6D00-75AF-4EAF-91BB-BC1A19D1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0F20-9FEB-4BA9-B241-512CEDBE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E943-68C9-45EE-A815-770407AC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429F-4CEB-4603-89B3-2D0DEF47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5E6-1296-4D9A-8B6E-71160AA9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FC6C9-C254-4904-A961-38DCF815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8238-D6FB-45E8-8E42-7CF03E1D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8D1F-5071-4F85-A5BF-62C4DE2E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62F-798D-413E-9CD5-D5EC4BFD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990-DACB-43CD-8DCD-E5CDB70A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EA12-3E5E-4FD1-98A7-C93707C2E6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9E215-5E23-4ED6-8456-DF2F44CA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69F2A-CBA3-465C-8E11-81B7D681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BB957-5D23-4C24-AE59-789BA5F4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C977A-369A-411C-8D00-19AB4834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49144-E1C8-4094-9055-D9C420FB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5347F-CFA0-464E-9DF1-C9A96CBB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44BED-F107-4948-A8E2-131BAC57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5" descr="footer_two-tone_revised_5-16_cir6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12AF3A5A-68E8-485E-B4BB-DE41C1FBB18A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33" descr="spark-385_150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6" descr="BID_Logo_3_23f"/>
          <p:cNvPicPr/>
          <p:nvPr/>
        </p:nvPicPr>
        <p:blipFill>
          <a:blip r:embed="rId4"/>
          <a:stretch/>
        </p:blipFill>
        <p:spPr>
          <a:xfrm>
            <a:off x="8450280" y="49320"/>
            <a:ext cx="617400" cy="482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500"/>
              </a:spcAft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500"/>
              </a:spcAft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2" descr="footer_two-tone_revised_5-16_cir6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6" descr="spark-385_150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500"/>
              </a:spcAft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500"/>
              </a:spcAft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CCD32A46-DB48-4C8A-B05B-C9D0DD057D6D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jpeg"/><Relationship Id="rId13" Type="http://schemas.openxmlformats.org/officeDocument/2006/relationships/image" Target="../media/image31.png"/><Relationship Id="rId14" Type="http://schemas.openxmlformats.org/officeDocument/2006/relationships/image" Target="../media/image30.jpeg"/><Relationship Id="rId15" Type="http://schemas.openxmlformats.org/officeDocument/2006/relationships/image" Target="../media/image30.jpeg"/><Relationship Id="rId16" Type="http://schemas.openxmlformats.org/officeDocument/2006/relationships/image" Target="../media/image3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5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B80BFB96-F460-4821-B0A1-F302334F4C58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1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7440" y="291600"/>
            <a:ext cx="5060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Agilent USB Modular Instruments &amp; Data Acquisition</a:t>
            </a: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95" name="Picture 6" descr="C:\Documents and Settings\engchneo\My Documents\My Pictures\Agilent\Modular\DAQ Modular_withoutcili.jpg"/>
          <p:cNvPicPr/>
          <p:nvPr/>
        </p:nvPicPr>
        <p:blipFill>
          <a:blip r:embed="rId1"/>
          <a:stretch/>
        </p:blipFill>
        <p:spPr>
          <a:xfrm>
            <a:off x="2862360" y="2354400"/>
            <a:ext cx="50004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VEE Code Converter – How Does It Look Like?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5" name="TextBox 6"/>
          <p:cNvSpPr/>
          <p:nvPr/>
        </p:nvSpPr>
        <p:spPr>
          <a:xfrm>
            <a:off x="5715000" y="1185840"/>
            <a:ext cx="3166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Command Logger files that you would like to convert to VE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onvert more than one file at any on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les will be saved in the same folder as the Command Logger source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ScreenHunter_02 Apr. 16 14.36.gif"/>
          <p:cNvPicPr/>
          <p:nvPr/>
        </p:nvPicPr>
        <p:blipFill>
          <a:blip r:embed="rId1"/>
          <a:stretch/>
        </p:blipFill>
        <p:spPr>
          <a:xfrm>
            <a:off x="179280" y="1165320"/>
            <a:ext cx="533088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Microsoft C#/C++/VB Code Converter – How Does It Look Like? 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8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20B30438-660A-4805-B5D3-EE0FD47B5255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6"/>
          <p:cNvSpPr/>
          <p:nvPr/>
        </p:nvSpPr>
        <p:spPr>
          <a:xfrm>
            <a:off x="293760" y="5356080"/>
            <a:ext cx="851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a Command Logger File to Programming Codes and Save it to Disk Easily using the Code Co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9" descr="ScreenHunter_03 Apr. 16 14.40.gif"/>
          <p:cNvPicPr/>
          <p:nvPr/>
        </p:nvPicPr>
        <p:blipFill>
          <a:blip r:embed="rId1"/>
          <a:stretch/>
        </p:blipFill>
        <p:spPr>
          <a:xfrm>
            <a:off x="112680" y="619200"/>
            <a:ext cx="89438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Rectangle 2"/>
          <p:cNvGrpSpPr/>
          <p:nvPr/>
        </p:nvGrpSpPr>
        <p:grpSpPr>
          <a:xfrm>
            <a:off x="146160" y="3267000"/>
            <a:ext cx="1822320" cy="2530440"/>
            <a:chOff x="146160" y="3267000"/>
            <a:chExt cx="1822320" cy="2530440"/>
          </a:xfrm>
        </p:grpSpPr>
        <p:pic>
          <p:nvPicPr>
            <p:cNvPr id="97" name="Rectangle 2" descr=""/>
            <p:cNvPicPr/>
            <p:nvPr/>
          </p:nvPicPr>
          <p:blipFill>
            <a:blip r:embed="rId1"/>
            <a:stretch/>
          </p:blipFill>
          <p:spPr>
            <a:xfrm>
              <a:off x="146160" y="3267000"/>
              <a:ext cx="182232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080" y="3274920"/>
              <a:ext cx="1809720" cy="25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Rectangle 11"/>
          <p:cNvGrpSpPr/>
          <p:nvPr/>
        </p:nvGrpSpPr>
        <p:grpSpPr>
          <a:xfrm>
            <a:off x="2004840" y="3267000"/>
            <a:ext cx="1592280" cy="2530440"/>
            <a:chOff x="2004840" y="3267000"/>
            <a:chExt cx="1592280" cy="2530440"/>
          </a:xfrm>
        </p:grpSpPr>
        <p:pic>
          <p:nvPicPr>
            <p:cNvPr id="100" name="Rectangle 11" descr=""/>
            <p:cNvPicPr/>
            <p:nvPr/>
          </p:nvPicPr>
          <p:blipFill>
            <a:blip r:embed="rId2"/>
            <a:stretch/>
          </p:blipFill>
          <p:spPr>
            <a:xfrm>
              <a:off x="2004840" y="3267000"/>
              <a:ext cx="159228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013120" y="3270240"/>
              <a:ext cx="157464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Rectangle 15"/>
          <p:cNvGrpSpPr/>
          <p:nvPr/>
        </p:nvGrpSpPr>
        <p:grpSpPr>
          <a:xfrm>
            <a:off x="3614760" y="3255840"/>
            <a:ext cx="1822320" cy="2541600"/>
            <a:chOff x="3614760" y="3255840"/>
            <a:chExt cx="1822320" cy="2541600"/>
          </a:xfrm>
        </p:grpSpPr>
        <p:pic>
          <p:nvPicPr>
            <p:cNvPr id="103" name="Rectangle 15" descr=""/>
            <p:cNvPicPr/>
            <p:nvPr/>
          </p:nvPicPr>
          <p:blipFill>
            <a:blip r:embed="rId3"/>
            <a:stretch/>
          </p:blipFill>
          <p:spPr>
            <a:xfrm>
              <a:off x="3614760" y="3255840"/>
              <a:ext cx="1822320" cy="25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619440" y="3260880"/>
              <a:ext cx="1809720" cy="25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20"/>
          <p:cNvGrpSpPr/>
          <p:nvPr/>
        </p:nvGrpSpPr>
        <p:grpSpPr>
          <a:xfrm>
            <a:off x="5462640" y="3260880"/>
            <a:ext cx="1590480" cy="2536560"/>
            <a:chOff x="5462640" y="3260880"/>
            <a:chExt cx="1590480" cy="2536560"/>
          </a:xfrm>
        </p:grpSpPr>
        <p:pic>
          <p:nvPicPr>
            <p:cNvPr id="106" name="Rectangle 20" descr=""/>
            <p:cNvPicPr/>
            <p:nvPr/>
          </p:nvPicPr>
          <p:blipFill>
            <a:blip r:embed="rId4"/>
            <a:stretch/>
          </p:blipFill>
          <p:spPr>
            <a:xfrm>
              <a:off x="5462640" y="3260880"/>
              <a:ext cx="1590480" cy="25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470560" y="3268800"/>
              <a:ext cx="1574640" cy="25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Rectangle 23"/>
          <p:cNvGrpSpPr/>
          <p:nvPr/>
        </p:nvGrpSpPr>
        <p:grpSpPr>
          <a:xfrm>
            <a:off x="7120080" y="3260880"/>
            <a:ext cx="1822320" cy="2457360"/>
            <a:chOff x="7120080" y="3260880"/>
            <a:chExt cx="1822320" cy="2457360"/>
          </a:xfrm>
        </p:grpSpPr>
        <p:pic>
          <p:nvPicPr>
            <p:cNvPr id="109" name="Rectangle 23" descr=""/>
            <p:cNvPicPr/>
            <p:nvPr/>
          </p:nvPicPr>
          <p:blipFill>
            <a:blip r:embed="rId5"/>
            <a:stretch/>
          </p:blipFill>
          <p:spPr>
            <a:xfrm>
              <a:off x="7120080" y="3260880"/>
              <a:ext cx="182232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128000" y="3268800"/>
              <a:ext cx="1809720" cy="24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Slide Number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AD6341B0-F81C-4095-8BB3-6188268D0C4C}" type="slidenum">
              <a:rPr b="1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2"/>
          <p:cNvSpPr/>
          <p:nvPr/>
        </p:nvSpPr>
        <p:spPr>
          <a:xfrm>
            <a:off x="158760" y="762120"/>
            <a:ext cx="8705880" cy="105084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90960" y="3425760"/>
            <a:ext cx="144108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2chn 100MHz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8-bit, 500MSa/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(U270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53160" y="4260960"/>
            <a:ext cx="14911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2chn 200MHz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8-bit, 500MSa/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(U2702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AutoShape 8"/>
          <p:cNvGrpSpPr/>
          <p:nvPr/>
        </p:nvGrpSpPr>
        <p:grpSpPr>
          <a:xfrm>
            <a:off x="133200" y="1914480"/>
            <a:ext cx="1841760" cy="1316160"/>
            <a:chOff x="133200" y="1914480"/>
            <a:chExt cx="1841760" cy="1316160"/>
          </a:xfrm>
        </p:grpSpPr>
        <p:pic>
          <p:nvPicPr>
            <p:cNvPr id="116" name="AutoShape 8" descr=""/>
            <p:cNvPicPr/>
            <p:nvPr/>
          </p:nvPicPr>
          <p:blipFill>
            <a:blip r:embed="rId6"/>
            <a:stretch/>
          </p:blipFill>
          <p:spPr>
            <a:xfrm>
              <a:off x="133200" y="1914480"/>
              <a:ext cx="184176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04840" y="1981080"/>
              <a:ext cx="169848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9"/>
          <p:cNvSpPr/>
          <p:nvPr/>
        </p:nvSpPr>
        <p:spPr>
          <a:xfrm>
            <a:off x="201600" y="1952640"/>
            <a:ext cx="1770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Oscilloscop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 (2 mode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AutoShape 10"/>
          <p:cNvGrpSpPr/>
          <p:nvPr/>
        </p:nvGrpSpPr>
        <p:grpSpPr>
          <a:xfrm>
            <a:off x="1994040" y="1901880"/>
            <a:ext cx="1603080" cy="1317600"/>
            <a:chOff x="1994040" y="1901880"/>
            <a:chExt cx="1603080" cy="1317600"/>
          </a:xfrm>
        </p:grpSpPr>
        <p:pic>
          <p:nvPicPr>
            <p:cNvPr id="120" name="AutoShape 10" descr=""/>
            <p:cNvPicPr/>
            <p:nvPr/>
          </p:nvPicPr>
          <p:blipFill>
            <a:blip r:embed="rId7"/>
            <a:stretch/>
          </p:blipFill>
          <p:spPr>
            <a:xfrm>
              <a:off x="1994040" y="1901880"/>
              <a:ext cx="16030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065320" y="1968480"/>
              <a:ext cx="146196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12"/>
          <p:cNvSpPr/>
          <p:nvPr/>
        </p:nvSpPr>
        <p:spPr>
          <a:xfrm>
            <a:off x="385920" y="3370320"/>
            <a:ext cx="139680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2075040" y="2030400"/>
            <a:ext cx="1454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Power 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(1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016000" y="3430440"/>
            <a:ext cx="157824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3chn 20V/120m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1uA/100pA 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722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AutoShape 16"/>
          <p:cNvGrpSpPr/>
          <p:nvPr/>
        </p:nvGrpSpPr>
        <p:grpSpPr>
          <a:xfrm>
            <a:off x="3614760" y="1908000"/>
            <a:ext cx="1835280" cy="1316160"/>
            <a:chOff x="3614760" y="1908000"/>
            <a:chExt cx="1835280" cy="1316160"/>
          </a:xfrm>
        </p:grpSpPr>
        <p:pic>
          <p:nvPicPr>
            <p:cNvPr id="126" name="AutoShape 16" descr=""/>
            <p:cNvPicPr/>
            <p:nvPr/>
          </p:nvPicPr>
          <p:blipFill>
            <a:blip r:embed="rId8"/>
            <a:stretch/>
          </p:blipFill>
          <p:spPr>
            <a:xfrm>
              <a:off x="3614760" y="1908000"/>
              <a:ext cx="183528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683160" y="1974960"/>
              <a:ext cx="169848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17"/>
          <p:cNvSpPr/>
          <p:nvPr/>
        </p:nvSpPr>
        <p:spPr>
          <a:xfrm>
            <a:off x="3670200" y="1984320"/>
            <a:ext cx="1643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Digital Multi 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(1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4079160" y="3429000"/>
            <a:ext cx="89388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5.5 digits</a:t>
            </a:r>
            <a:br>
              <a:rPr sz="1500"/>
            </a:b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100Sa/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74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AutoShape 19"/>
          <p:cNvGrpSpPr/>
          <p:nvPr/>
        </p:nvGrpSpPr>
        <p:grpSpPr>
          <a:xfrm>
            <a:off x="5467320" y="1914480"/>
            <a:ext cx="1598760" cy="1292400"/>
            <a:chOff x="5467320" y="1914480"/>
            <a:chExt cx="1598760" cy="1292400"/>
          </a:xfrm>
        </p:grpSpPr>
        <p:pic>
          <p:nvPicPr>
            <p:cNvPr id="131" name="AutoShape 19" descr=""/>
            <p:cNvPicPr/>
            <p:nvPr/>
          </p:nvPicPr>
          <p:blipFill>
            <a:blip r:embed="rId9"/>
            <a:stretch/>
          </p:blipFill>
          <p:spPr>
            <a:xfrm>
              <a:off x="5467320" y="1914480"/>
              <a:ext cx="159876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533920" y="1984320"/>
              <a:ext cx="146520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21"/>
          <p:cNvSpPr/>
          <p:nvPr/>
        </p:nvSpPr>
        <p:spPr>
          <a:xfrm>
            <a:off x="5545080" y="2023920"/>
            <a:ext cx="1454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(1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5566680" y="3400560"/>
            <a:ext cx="13615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32chn</a:t>
            </a:r>
            <a:br>
              <a:rPr sz="1500"/>
            </a:b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 switch matr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75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AutoShape 24"/>
          <p:cNvGrpSpPr/>
          <p:nvPr/>
        </p:nvGrpSpPr>
        <p:grpSpPr>
          <a:xfrm>
            <a:off x="7083360" y="1901880"/>
            <a:ext cx="1841400" cy="1317600"/>
            <a:chOff x="7083360" y="1901880"/>
            <a:chExt cx="1841400" cy="1317600"/>
          </a:xfrm>
        </p:grpSpPr>
        <p:pic>
          <p:nvPicPr>
            <p:cNvPr id="136" name="AutoShape 24" descr=""/>
            <p:cNvPicPr/>
            <p:nvPr/>
          </p:nvPicPr>
          <p:blipFill>
            <a:blip r:embed="rId10"/>
            <a:stretch/>
          </p:blipFill>
          <p:spPr>
            <a:xfrm>
              <a:off x="7083360" y="1901880"/>
              <a:ext cx="184140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153200" y="1968480"/>
              <a:ext cx="169884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5"/>
          <p:cNvSpPr/>
          <p:nvPr/>
        </p:nvSpPr>
        <p:spPr>
          <a:xfrm>
            <a:off x="7140600" y="1984320"/>
            <a:ext cx="1643040" cy="730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Function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(1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7275960" y="3406680"/>
            <a:ext cx="14410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20Mhz FG with </a:t>
            </a:r>
            <a:br>
              <a:rPr sz="1500"/>
            </a:b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14-bit 50MS/s </a:t>
            </a:r>
            <a:br>
              <a:rPr sz="1500"/>
            </a:b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64k AW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76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395280" y="4192560"/>
            <a:ext cx="139716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8"/>
          <p:cNvSpPr/>
          <p:nvPr/>
        </p:nvSpPr>
        <p:spPr>
          <a:xfrm>
            <a:off x="2101680" y="3354480"/>
            <a:ext cx="1397160" cy="7617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9"/>
          <p:cNvSpPr/>
          <p:nvPr/>
        </p:nvSpPr>
        <p:spPr>
          <a:xfrm>
            <a:off x="3841920" y="3348000"/>
            <a:ext cx="139680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0"/>
          <p:cNvSpPr/>
          <p:nvPr/>
        </p:nvSpPr>
        <p:spPr>
          <a:xfrm>
            <a:off x="5565600" y="3341520"/>
            <a:ext cx="139716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1"/>
          <p:cNvSpPr/>
          <p:nvPr/>
        </p:nvSpPr>
        <p:spPr>
          <a:xfrm>
            <a:off x="7147080" y="3351240"/>
            <a:ext cx="1685880" cy="9604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3" descr=""/>
          <p:cNvPicPr/>
          <p:nvPr/>
        </p:nvPicPr>
        <p:blipFill>
          <a:blip r:embed="rId11"/>
          <a:stretch/>
        </p:blipFill>
        <p:spPr>
          <a:xfrm>
            <a:off x="1657440" y="777960"/>
            <a:ext cx="2404800" cy="1079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4"/>
          <p:cNvSpPr/>
          <p:nvPr/>
        </p:nvSpPr>
        <p:spPr>
          <a:xfrm>
            <a:off x="249120" y="871560"/>
            <a:ext cx="1770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Chass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 (1 mode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5"/>
          <p:cNvSpPr/>
          <p:nvPr/>
        </p:nvSpPr>
        <p:spPr>
          <a:xfrm>
            <a:off x="4111560" y="915840"/>
            <a:ext cx="139716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6"/>
          <p:cNvSpPr/>
          <p:nvPr/>
        </p:nvSpPr>
        <p:spPr>
          <a:xfrm>
            <a:off x="4345920" y="1022400"/>
            <a:ext cx="89388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gilent TT Cond"/>
              </a:rPr>
              <a:t>6 slot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gilent TT Cond"/>
              </a:rPr>
              <a:t>chas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gilent TT Cond"/>
              </a:rPr>
              <a:t>(U278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8640" y="7632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2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USB Modular Instruments Products</a:t>
            </a:r>
            <a:br>
              <a:rPr sz="2400"/>
            </a:br>
            <a:r>
              <a:rPr b="1" lang="en-US" sz="1900" spc="-1" strike="noStrike">
                <a:solidFill>
                  <a:srgbClr val="0099cc"/>
                </a:solidFill>
                <a:latin typeface="Arial"/>
              </a:rPr>
              <a:t>U2700A series Agilent USB Modular Instruments and chassis (7 models)</a:t>
            </a:r>
            <a:br>
              <a:rPr sz="1900"/>
            </a:br>
            <a:endParaRPr b="1" lang="en-US" sz="19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0" name="Text Box 44"/>
          <p:cNvSpPr/>
          <p:nvPr/>
        </p:nvSpPr>
        <p:spPr>
          <a:xfrm>
            <a:off x="139680" y="5832360"/>
            <a:ext cx="8755200" cy="581040"/>
          </a:xfrm>
          <a:prstGeom prst="rect">
            <a:avLst/>
          </a:prstGeom>
          <a:solidFill>
            <a:srgbClr val="ffffc5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venient [ Work in comfort ]   </a:t>
            </a: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rtable [ Carry your instruments with you ]  </a:t>
            </a: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ple Setup [ Improve Efficiency ]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fordable [ Low start up cost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4" descr="C:\Pictures\Disc1\Jpeg Lowres\DSCF0054.jpg"/>
          <p:cNvPicPr/>
          <p:nvPr/>
        </p:nvPicPr>
        <p:blipFill>
          <a:blip r:embed="rId12"/>
          <a:stretch/>
        </p:blipFill>
        <p:spPr>
          <a:xfrm>
            <a:off x="279360" y="2247840"/>
            <a:ext cx="1612800" cy="1079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pic>
        <p:nvPicPr>
          <p:cNvPr id="152" name="Picture 65" descr="C:\Pictures\Disc1\Jpeg Lowres\DSCF0058.jpg"/>
          <p:cNvPicPr/>
          <p:nvPr/>
        </p:nvPicPr>
        <p:blipFill>
          <a:blip r:embed="rId13"/>
          <a:stretch/>
        </p:blipFill>
        <p:spPr>
          <a:xfrm>
            <a:off x="2197080" y="2397240"/>
            <a:ext cx="1473120" cy="985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5" descr="C:\Pictures\Disc1\Jpeg Lowres\DSCF0058.jpg"/>
          <p:cNvPicPr/>
          <p:nvPr/>
        </p:nvPicPr>
        <p:blipFill>
          <a:blip r:embed="rId14"/>
          <a:stretch/>
        </p:blipFill>
        <p:spPr>
          <a:xfrm>
            <a:off x="5537160" y="2359080"/>
            <a:ext cx="1473120" cy="985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5" descr="C:\Pictures\Disc1\Jpeg Lowres\DSCF0058.jpg"/>
          <p:cNvPicPr/>
          <p:nvPr/>
        </p:nvPicPr>
        <p:blipFill>
          <a:blip r:embed="rId15"/>
          <a:stretch/>
        </p:blipFill>
        <p:spPr>
          <a:xfrm>
            <a:off x="7315200" y="2359080"/>
            <a:ext cx="1473120" cy="985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5" descr="C:\Pictures\Disc1\Jpeg Lowres\DSCF0058.jpg"/>
          <p:cNvPicPr/>
          <p:nvPr/>
        </p:nvPicPr>
        <p:blipFill>
          <a:blip r:embed="rId16"/>
          <a:stretch/>
        </p:blipFill>
        <p:spPr>
          <a:xfrm>
            <a:off x="3860640" y="2349360"/>
            <a:ext cx="1473480" cy="9781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10"/>
          <p:cNvSpPr/>
          <p:nvPr/>
        </p:nvSpPr>
        <p:spPr>
          <a:xfrm>
            <a:off x="190440" y="299412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0"/>
          <p:cNvSpPr/>
          <p:nvPr/>
        </p:nvSpPr>
        <p:spPr>
          <a:xfrm>
            <a:off x="2070000" y="2968560"/>
            <a:ext cx="78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0"/>
          <p:cNvSpPr/>
          <p:nvPr/>
        </p:nvSpPr>
        <p:spPr>
          <a:xfrm>
            <a:off x="3708360" y="299412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0"/>
          <p:cNvSpPr/>
          <p:nvPr/>
        </p:nvSpPr>
        <p:spPr>
          <a:xfrm>
            <a:off x="5511960" y="296856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0"/>
          <p:cNvSpPr/>
          <p:nvPr/>
        </p:nvSpPr>
        <p:spPr>
          <a:xfrm>
            <a:off x="7162920" y="298116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1" descr=""/>
          <p:cNvPicPr/>
          <p:nvPr/>
        </p:nvPicPr>
        <p:blipFill>
          <a:blip r:embed="rId17"/>
          <a:stretch/>
        </p:blipFill>
        <p:spPr>
          <a:xfrm>
            <a:off x="2209680" y="4213080"/>
            <a:ext cx="1143000" cy="7606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28"/>
          <p:cNvSpPr/>
          <p:nvPr/>
        </p:nvSpPr>
        <p:spPr>
          <a:xfrm>
            <a:off x="2133720" y="5029200"/>
            <a:ext cx="139680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058840" y="5105520"/>
            <a:ext cx="15642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Parametric Tes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Fixtu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94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266760" y="6651720"/>
            <a:ext cx="614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3CCA3F9E-937B-4B2D-A8D4-EAD0586C1AA7}" type="slidenum">
              <a:rPr b="1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Rectangle 103"/>
          <p:cNvGrpSpPr/>
          <p:nvPr/>
        </p:nvGrpSpPr>
        <p:grpSpPr>
          <a:xfrm>
            <a:off x="7400880" y="2938320"/>
            <a:ext cx="1609920" cy="2719440"/>
            <a:chOff x="7400880" y="2938320"/>
            <a:chExt cx="1609920" cy="2719440"/>
          </a:xfrm>
        </p:grpSpPr>
        <p:pic>
          <p:nvPicPr>
            <p:cNvPr id="166" name="Rectangle 103" descr=""/>
            <p:cNvPicPr/>
            <p:nvPr/>
          </p:nvPicPr>
          <p:blipFill>
            <a:blip r:embed="rId1"/>
            <a:stretch/>
          </p:blipFill>
          <p:spPr>
            <a:xfrm>
              <a:off x="7400880" y="2938320"/>
              <a:ext cx="160992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404120" y="2946240"/>
              <a:ext cx="160020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ectangle 102"/>
          <p:cNvGrpSpPr/>
          <p:nvPr/>
        </p:nvGrpSpPr>
        <p:grpSpPr>
          <a:xfrm>
            <a:off x="5479920" y="2938320"/>
            <a:ext cx="1841760" cy="2719440"/>
            <a:chOff x="5479920" y="2938320"/>
            <a:chExt cx="1841760" cy="2719440"/>
          </a:xfrm>
        </p:grpSpPr>
        <p:pic>
          <p:nvPicPr>
            <p:cNvPr id="169" name="Rectangle 102" descr=""/>
            <p:cNvPicPr/>
            <p:nvPr/>
          </p:nvPicPr>
          <p:blipFill>
            <a:blip r:embed="rId2"/>
            <a:stretch/>
          </p:blipFill>
          <p:spPr>
            <a:xfrm>
              <a:off x="5479920" y="2938320"/>
              <a:ext cx="184176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486400" y="2946240"/>
              <a:ext cx="182880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ectangle 101"/>
          <p:cNvGrpSpPr/>
          <p:nvPr/>
        </p:nvGrpSpPr>
        <p:grpSpPr>
          <a:xfrm>
            <a:off x="3816360" y="2938320"/>
            <a:ext cx="1614600" cy="2719440"/>
            <a:chOff x="3816360" y="2938320"/>
            <a:chExt cx="1614600" cy="2719440"/>
          </a:xfrm>
        </p:grpSpPr>
        <p:pic>
          <p:nvPicPr>
            <p:cNvPr id="172" name="Rectangle 101" descr=""/>
            <p:cNvPicPr/>
            <p:nvPr/>
          </p:nvPicPr>
          <p:blipFill>
            <a:blip r:embed="rId3"/>
            <a:stretch/>
          </p:blipFill>
          <p:spPr>
            <a:xfrm>
              <a:off x="3816360" y="2938320"/>
              <a:ext cx="161460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3822840" y="2946240"/>
              <a:ext cx="160020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ectangle 100"/>
          <p:cNvGrpSpPr/>
          <p:nvPr/>
        </p:nvGrpSpPr>
        <p:grpSpPr>
          <a:xfrm>
            <a:off x="2139840" y="2938320"/>
            <a:ext cx="1614600" cy="2719440"/>
            <a:chOff x="2139840" y="2938320"/>
            <a:chExt cx="1614600" cy="2719440"/>
          </a:xfrm>
        </p:grpSpPr>
        <p:pic>
          <p:nvPicPr>
            <p:cNvPr id="175" name="Rectangle 100" descr=""/>
            <p:cNvPicPr/>
            <p:nvPr/>
          </p:nvPicPr>
          <p:blipFill>
            <a:blip r:embed="rId4"/>
            <a:stretch/>
          </p:blipFill>
          <p:spPr>
            <a:xfrm>
              <a:off x="2139840" y="2938320"/>
              <a:ext cx="161460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2146320" y="2946240"/>
              <a:ext cx="160020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Rectangle 99"/>
          <p:cNvGrpSpPr/>
          <p:nvPr/>
        </p:nvGrpSpPr>
        <p:grpSpPr>
          <a:xfrm>
            <a:off x="133200" y="2938320"/>
            <a:ext cx="1944720" cy="2719440"/>
            <a:chOff x="133200" y="2938320"/>
            <a:chExt cx="1944720" cy="2719440"/>
          </a:xfrm>
        </p:grpSpPr>
        <p:pic>
          <p:nvPicPr>
            <p:cNvPr id="178" name="Rectangle 99" descr=""/>
            <p:cNvPicPr/>
            <p:nvPr/>
          </p:nvPicPr>
          <p:blipFill>
            <a:blip r:embed="rId5"/>
            <a:stretch/>
          </p:blipFill>
          <p:spPr>
            <a:xfrm>
              <a:off x="133200" y="2938320"/>
              <a:ext cx="194472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39680" y="2946240"/>
              <a:ext cx="193032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Picture 55" descr="48_u2800_mercury"/>
          <p:cNvPicPr/>
          <p:nvPr/>
        </p:nvPicPr>
        <p:blipFill>
          <a:blip r:embed="rId6"/>
          <a:stretch/>
        </p:blipFill>
        <p:spPr>
          <a:xfrm>
            <a:off x="7518240" y="905040"/>
            <a:ext cx="1347840" cy="1274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3440" y="201240"/>
            <a:ext cx="829800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Agilent USB Modular DAQ Products</a:t>
            </a:r>
            <a:br>
              <a:rPr sz="2800"/>
            </a:b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Modular Data Acquisition (18 models)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4707000" y="1084320"/>
            <a:ext cx="4762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726240" y="1084320"/>
            <a:ext cx="4762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5"/>
          <p:cNvSpPr/>
          <p:nvPr/>
        </p:nvSpPr>
        <p:spPr>
          <a:xfrm>
            <a:off x="139680" y="1015920"/>
            <a:ext cx="193032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2158920" y="1015920"/>
            <a:ext cx="158760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7"/>
          <p:cNvSpPr/>
          <p:nvPr/>
        </p:nvSpPr>
        <p:spPr>
          <a:xfrm>
            <a:off x="3822840" y="1028880"/>
            <a:ext cx="158724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8"/>
          <p:cNvSpPr/>
          <p:nvPr/>
        </p:nvSpPr>
        <p:spPr>
          <a:xfrm>
            <a:off x="5486400" y="1015920"/>
            <a:ext cx="182880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9"/>
          <p:cNvSpPr/>
          <p:nvPr/>
        </p:nvSpPr>
        <p:spPr>
          <a:xfrm>
            <a:off x="7391520" y="1015920"/>
            <a:ext cx="158724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AutoShape 35"/>
          <p:cNvGrpSpPr/>
          <p:nvPr/>
        </p:nvGrpSpPr>
        <p:grpSpPr>
          <a:xfrm>
            <a:off x="7400880" y="2127240"/>
            <a:ext cx="1596960" cy="798480"/>
            <a:chOff x="7400880" y="2127240"/>
            <a:chExt cx="1596960" cy="798480"/>
          </a:xfrm>
        </p:grpSpPr>
        <p:pic>
          <p:nvPicPr>
            <p:cNvPr id="190" name="AutoShape 35" descr=""/>
            <p:cNvPicPr/>
            <p:nvPr/>
          </p:nvPicPr>
          <p:blipFill>
            <a:blip r:embed="rId7"/>
            <a:stretch/>
          </p:blipFill>
          <p:spPr>
            <a:xfrm>
              <a:off x="7400880" y="2127240"/>
              <a:ext cx="15969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442280" y="2171880"/>
              <a:ext cx="1511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AutoShape 36"/>
          <p:cNvGrpSpPr/>
          <p:nvPr/>
        </p:nvGrpSpPr>
        <p:grpSpPr>
          <a:xfrm>
            <a:off x="5479920" y="2127240"/>
            <a:ext cx="1841760" cy="798480"/>
            <a:chOff x="5479920" y="2127240"/>
            <a:chExt cx="1841760" cy="798480"/>
          </a:xfrm>
        </p:grpSpPr>
        <p:pic>
          <p:nvPicPr>
            <p:cNvPr id="193" name="AutoShape 36" descr=""/>
            <p:cNvPicPr/>
            <p:nvPr/>
          </p:nvPicPr>
          <p:blipFill>
            <a:blip r:embed="rId8"/>
            <a:stretch/>
          </p:blipFill>
          <p:spPr>
            <a:xfrm>
              <a:off x="5479920" y="2127240"/>
              <a:ext cx="18417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524560" y="2171880"/>
              <a:ext cx="17524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AutoShape 37"/>
          <p:cNvGrpSpPr/>
          <p:nvPr/>
        </p:nvGrpSpPr>
        <p:grpSpPr>
          <a:xfrm>
            <a:off x="3816360" y="2127240"/>
            <a:ext cx="1603440" cy="798480"/>
            <a:chOff x="3816360" y="2127240"/>
            <a:chExt cx="1603440" cy="798480"/>
          </a:xfrm>
        </p:grpSpPr>
        <p:pic>
          <p:nvPicPr>
            <p:cNvPr id="196" name="AutoShape 37" descr=""/>
            <p:cNvPicPr/>
            <p:nvPr/>
          </p:nvPicPr>
          <p:blipFill>
            <a:blip r:embed="rId9"/>
            <a:stretch/>
          </p:blipFill>
          <p:spPr>
            <a:xfrm>
              <a:off x="3816360" y="2127240"/>
              <a:ext cx="1603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860640" y="2171880"/>
              <a:ext cx="15116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AutoShape 38"/>
          <p:cNvGrpSpPr/>
          <p:nvPr/>
        </p:nvGrpSpPr>
        <p:grpSpPr>
          <a:xfrm>
            <a:off x="2152800" y="2127240"/>
            <a:ext cx="1601640" cy="798480"/>
            <a:chOff x="2152800" y="2127240"/>
            <a:chExt cx="1601640" cy="798480"/>
          </a:xfrm>
        </p:grpSpPr>
        <p:pic>
          <p:nvPicPr>
            <p:cNvPr id="199" name="AutoShape 38" descr=""/>
            <p:cNvPicPr/>
            <p:nvPr/>
          </p:nvPicPr>
          <p:blipFill>
            <a:blip r:embed="rId10"/>
            <a:stretch/>
          </p:blipFill>
          <p:spPr>
            <a:xfrm>
              <a:off x="2152800" y="2127240"/>
              <a:ext cx="16016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197080" y="2171880"/>
              <a:ext cx="1511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AutoShape 39"/>
          <p:cNvGrpSpPr/>
          <p:nvPr/>
        </p:nvGrpSpPr>
        <p:grpSpPr>
          <a:xfrm>
            <a:off x="128520" y="2127240"/>
            <a:ext cx="1962360" cy="798480"/>
            <a:chOff x="128520" y="2127240"/>
            <a:chExt cx="1962360" cy="798480"/>
          </a:xfrm>
        </p:grpSpPr>
        <p:pic>
          <p:nvPicPr>
            <p:cNvPr id="202" name="AutoShape 39" descr=""/>
            <p:cNvPicPr/>
            <p:nvPr/>
          </p:nvPicPr>
          <p:blipFill>
            <a:blip r:embed="rId11"/>
            <a:stretch/>
          </p:blipFill>
          <p:spPr>
            <a:xfrm>
              <a:off x="128520" y="2127240"/>
              <a:ext cx="19623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69920" y="2171880"/>
              <a:ext cx="18748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40"/>
          <p:cNvSpPr/>
          <p:nvPr/>
        </p:nvSpPr>
        <p:spPr>
          <a:xfrm>
            <a:off x="241200" y="2203560"/>
            <a:ext cx="1773360" cy="492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U2300A Ser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Multifunction D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 </a:t>
            </a: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( 7 Model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2209680" y="2203560"/>
            <a:ext cx="1443240" cy="492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U2781A – Modular Chas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 </a:t>
            </a: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( 1 Mode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3924360" y="2203560"/>
            <a:ext cx="14428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U2500A – Simul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Sampling DAQ</a:t>
            </a:r>
            <a:br>
              <a:rPr sz="1200"/>
            </a:b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 ( 3 Model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5537160" y="2203560"/>
            <a:ext cx="1684440" cy="492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gilent TT Cond"/>
              </a:rPr>
              <a:t>U2100A &amp; U2600A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gilent TT Cond"/>
              </a:rPr>
              <a:t>Isolated Digital IO</a:t>
            </a:r>
            <a:br>
              <a:rPr sz="1200"/>
            </a:b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( 6 Model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7454880" y="2178000"/>
            <a:ext cx="1442880" cy="492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U2800A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Signal Conditi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(1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0" descr=""/>
          <p:cNvPicPr/>
          <p:nvPr/>
        </p:nvPicPr>
        <p:blipFill>
          <a:blip r:embed="rId12"/>
          <a:stretch/>
        </p:blipFill>
        <p:spPr>
          <a:xfrm>
            <a:off x="563400" y="1305000"/>
            <a:ext cx="1089360" cy="539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1" descr=""/>
          <p:cNvPicPr/>
          <p:nvPr/>
        </p:nvPicPr>
        <p:blipFill>
          <a:blip r:embed="rId13"/>
          <a:stretch/>
        </p:blipFill>
        <p:spPr>
          <a:xfrm>
            <a:off x="2089080" y="876240"/>
            <a:ext cx="1708200" cy="1143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2" descr=""/>
          <p:cNvPicPr/>
          <p:nvPr/>
        </p:nvPicPr>
        <p:blipFill>
          <a:blip r:embed="rId14"/>
          <a:stretch/>
        </p:blipFill>
        <p:spPr>
          <a:xfrm>
            <a:off x="4127400" y="1281240"/>
            <a:ext cx="1000080" cy="495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3" descr=""/>
          <p:cNvPicPr/>
          <p:nvPr/>
        </p:nvPicPr>
        <p:blipFill>
          <a:blip r:embed="rId15"/>
          <a:stretch/>
        </p:blipFill>
        <p:spPr>
          <a:xfrm>
            <a:off x="6408720" y="1382760"/>
            <a:ext cx="812880" cy="40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4" descr=""/>
          <p:cNvPicPr/>
          <p:nvPr/>
        </p:nvPicPr>
        <p:blipFill>
          <a:blip r:embed="rId16"/>
          <a:stretch/>
        </p:blipFill>
        <p:spPr>
          <a:xfrm>
            <a:off x="5514840" y="1368360"/>
            <a:ext cx="636840" cy="3938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2"/>
          <p:cNvSpPr/>
          <p:nvPr/>
        </p:nvSpPr>
        <p:spPr>
          <a:xfrm>
            <a:off x="167040" y="3075120"/>
            <a:ext cx="906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SE/8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250k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3"/>
          <p:cNvSpPr/>
          <p:nvPr/>
        </p:nvSpPr>
        <p:spPr>
          <a:xfrm>
            <a:off x="165960" y="3672000"/>
            <a:ext cx="9396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SE/8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250kS/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with 2 A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4"/>
          <p:cNvSpPr/>
          <p:nvPr/>
        </p:nvSpPr>
        <p:spPr>
          <a:xfrm>
            <a:off x="216000" y="4414680"/>
            <a:ext cx="84456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SE/8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500kS/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5"/>
          <p:cNvSpPr/>
          <p:nvPr/>
        </p:nvSpPr>
        <p:spPr>
          <a:xfrm>
            <a:off x="165960" y="4992840"/>
            <a:ext cx="9396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3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SE/8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500kS/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with 2 A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6"/>
          <p:cNvSpPr/>
          <p:nvPr/>
        </p:nvSpPr>
        <p:spPr>
          <a:xfrm>
            <a:off x="203040" y="3017880"/>
            <a:ext cx="876600" cy="5205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7"/>
          <p:cNvSpPr/>
          <p:nvPr/>
        </p:nvSpPr>
        <p:spPr>
          <a:xfrm>
            <a:off x="190440" y="3614760"/>
            <a:ext cx="897120" cy="66204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8"/>
          <p:cNvSpPr/>
          <p:nvPr/>
        </p:nvSpPr>
        <p:spPr>
          <a:xfrm>
            <a:off x="190440" y="4338720"/>
            <a:ext cx="881280" cy="5205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9"/>
          <p:cNvSpPr/>
          <p:nvPr/>
        </p:nvSpPr>
        <p:spPr>
          <a:xfrm>
            <a:off x="179280" y="4924440"/>
            <a:ext cx="885960" cy="67464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0"/>
          <p:cNvSpPr/>
          <p:nvPr/>
        </p:nvSpPr>
        <p:spPr>
          <a:xfrm>
            <a:off x="1146600" y="3087720"/>
            <a:ext cx="906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5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64SE/32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250k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1"/>
          <p:cNvSpPr/>
          <p:nvPr/>
        </p:nvSpPr>
        <p:spPr>
          <a:xfrm>
            <a:off x="1119600" y="3716280"/>
            <a:ext cx="906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6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64SE/32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500k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2"/>
          <p:cNvSpPr/>
          <p:nvPr/>
        </p:nvSpPr>
        <p:spPr>
          <a:xfrm>
            <a:off x="1184040" y="4408560"/>
            <a:ext cx="803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3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64SE/32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2-bit, 3M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73"/>
          <p:cNvSpPr/>
          <p:nvPr/>
        </p:nvSpPr>
        <p:spPr>
          <a:xfrm>
            <a:off x="1155600" y="3017880"/>
            <a:ext cx="870120" cy="5335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4"/>
          <p:cNvSpPr/>
          <p:nvPr/>
        </p:nvSpPr>
        <p:spPr>
          <a:xfrm>
            <a:off x="1160640" y="3665520"/>
            <a:ext cx="857160" cy="4953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5"/>
          <p:cNvSpPr/>
          <p:nvPr/>
        </p:nvSpPr>
        <p:spPr>
          <a:xfrm>
            <a:off x="1155600" y="4338720"/>
            <a:ext cx="862200" cy="5223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6"/>
          <p:cNvSpPr/>
          <p:nvPr/>
        </p:nvSpPr>
        <p:spPr>
          <a:xfrm>
            <a:off x="2479680" y="3097080"/>
            <a:ext cx="9018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78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6 slots chas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77"/>
          <p:cNvSpPr/>
          <p:nvPr/>
        </p:nvSpPr>
        <p:spPr>
          <a:xfrm>
            <a:off x="2444760" y="3032280"/>
            <a:ext cx="968400" cy="395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8"/>
          <p:cNvSpPr/>
          <p:nvPr/>
        </p:nvSpPr>
        <p:spPr>
          <a:xfrm>
            <a:off x="4142160" y="3060720"/>
            <a:ext cx="906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54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4 ch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250k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9"/>
          <p:cNvSpPr/>
          <p:nvPr/>
        </p:nvSpPr>
        <p:spPr>
          <a:xfrm>
            <a:off x="4185720" y="3666960"/>
            <a:ext cx="939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54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4 ch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500kS/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0"/>
          <p:cNvSpPr/>
          <p:nvPr/>
        </p:nvSpPr>
        <p:spPr>
          <a:xfrm>
            <a:off x="4035600" y="3029040"/>
            <a:ext cx="1134720" cy="48420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81"/>
          <p:cNvSpPr/>
          <p:nvPr/>
        </p:nvSpPr>
        <p:spPr>
          <a:xfrm>
            <a:off x="4029120" y="3619440"/>
            <a:ext cx="1173240" cy="5097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2"/>
          <p:cNvSpPr/>
          <p:nvPr/>
        </p:nvSpPr>
        <p:spPr>
          <a:xfrm>
            <a:off x="4243320" y="4273560"/>
            <a:ext cx="803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53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4 ch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4-bit, 2M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83"/>
          <p:cNvSpPr/>
          <p:nvPr/>
        </p:nvSpPr>
        <p:spPr>
          <a:xfrm>
            <a:off x="4071960" y="4229280"/>
            <a:ext cx="1123920" cy="49680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4"/>
          <p:cNvSpPr/>
          <p:nvPr/>
        </p:nvSpPr>
        <p:spPr>
          <a:xfrm>
            <a:off x="5587560" y="3063960"/>
            <a:ext cx="136008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12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16 Inputs, 16 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5"/>
          <p:cNvSpPr/>
          <p:nvPr/>
        </p:nvSpPr>
        <p:spPr>
          <a:xfrm>
            <a:off x="5673600" y="3006720"/>
            <a:ext cx="1171800" cy="3697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6"/>
          <p:cNvSpPr/>
          <p:nvPr/>
        </p:nvSpPr>
        <p:spPr>
          <a:xfrm>
            <a:off x="5635080" y="3511440"/>
            <a:ext cx="5922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12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32 In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87"/>
          <p:cNvSpPr/>
          <p:nvPr/>
        </p:nvSpPr>
        <p:spPr>
          <a:xfrm>
            <a:off x="5580000" y="3467160"/>
            <a:ext cx="701640" cy="3585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8"/>
          <p:cNvSpPr/>
          <p:nvPr/>
        </p:nvSpPr>
        <p:spPr>
          <a:xfrm>
            <a:off x="6436440" y="3517920"/>
            <a:ext cx="6987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123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32 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9"/>
          <p:cNvSpPr/>
          <p:nvPr/>
        </p:nvSpPr>
        <p:spPr>
          <a:xfrm>
            <a:off x="6446880" y="3462480"/>
            <a:ext cx="681120" cy="357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0"/>
          <p:cNvSpPr/>
          <p:nvPr/>
        </p:nvSpPr>
        <p:spPr>
          <a:xfrm>
            <a:off x="5670000" y="3968640"/>
            <a:ext cx="136008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65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32 Inputs, 32 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1"/>
          <p:cNvSpPr/>
          <p:nvPr/>
        </p:nvSpPr>
        <p:spPr>
          <a:xfrm>
            <a:off x="5740560" y="3911760"/>
            <a:ext cx="1201680" cy="3823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2"/>
          <p:cNvSpPr/>
          <p:nvPr/>
        </p:nvSpPr>
        <p:spPr>
          <a:xfrm>
            <a:off x="6041160" y="4417920"/>
            <a:ext cx="5922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265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64 In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3"/>
          <p:cNvSpPr/>
          <p:nvPr/>
        </p:nvSpPr>
        <p:spPr>
          <a:xfrm>
            <a:off x="5859360" y="4373640"/>
            <a:ext cx="909720" cy="384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4"/>
          <p:cNvSpPr/>
          <p:nvPr/>
        </p:nvSpPr>
        <p:spPr>
          <a:xfrm>
            <a:off x="5980680" y="4884840"/>
            <a:ext cx="6987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653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64 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95"/>
          <p:cNvSpPr/>
          <p:nvPr/>
        </p:nvSpPr>
        <p:spPr>
          <a:xfrm>
            <a:off x="5851440" y="4815000"/>
            <a:ext cx="935280" cy="395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6"/>
          <p:cNvSpPr/>
          <p:nvPr/>
        </p:nvSpPr>
        <p:spPr>
          <a:xfrm>
            <a:off x="7670880" y="3149640"/>
            <a:ext cx="10015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80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31 chn Thermocouple Signal Conditio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7"/>
          <p:cNvSpPr/>
          <p:nvPr/>
        </p:nvSpPr>
        <p:spPr>
          <a:xfrm>
            <a:off x="7635960" y="3046320"/>
            <a:ext cx="1055520" cy="6685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8"/>
          <p:cNvSpPr/>
          <p:nvPr/>
        </p:nvSpPr>
        <p:spPr>
          <a:xfrm>
            <a:off x="158760" y="6019920"/>
            <a:ext cx="8848800" cy="276120"/>
          </a:xfrm>
          <a:prstGeom prst="rect">
            <a:avLst/>
          </a:prstGeom>
          <a:solidFill>
            <a:srgbClr val="ffffcc"/>
          </a:solidFill>
          <a:ln w="12600">
            <a:solidFill>
              <a:srgbClr val="275e7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B interface     </a:t>
            </a: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asy &amp; Quick Setup Software Conven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0"/>
          <p:cNvSpPr/>
          <p:nvPr/>
        </p:nvSpPr>
        <p:spPr>
          <a:xfrm>
            <a:off x="1028880" y="179064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1"/>
          <p:cNvSpPr/>
          <p:nvPr/>
        </p:nvSpPr>
        <p:spPr>
          <a:xfrm>
            <a:off x="4495680" y="1816200"/>
            <a:ext cx="78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2"/>
          <p:cNvSpPr/>
          <p:nvPr/>
        </p:nvSpPr>
        <p:spPr>
          <a:xfrm>
            <a:off x="6527880" y="182880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: Soft Front Panel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ilent Measurement Manag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(A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USB scope AMiMM"/>
          <p:cNvPicPr/>
          <p:nvPr/>
        </p:nvPicPr>
        <p:blipFill>
          <a:blip r:embed="rId1"/>
          <a:stretch/>
        </p:blipFill>
        <p:spPr>
          <a:xfrm>
            <a:off x="503280" y="2166840"/>
            <a:ext cx="7151760" cy="4049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USB switch matrix AMiMM"/>
          <p:cNvPicPr/>
          <p:nvPr/>
        </p:nvPicPr>
        <p:blipFill>
          <a:blip r:embed="rId2"/>
          <a:stretch/>
        </p:blipFill>
        <p:spPr>
          <a:xfrm>
            <a:off x="5041800" y="890640"/>
            <a:ext cx="3422880" cy="22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C8EE1E34-8D9F-4BCD-8FDC-31432B3C9224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Agilent Measurement Manager (AMM) – Bundled in sales of USB Modular Instruments and USB Modular DAQ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7160" y="1577520"/>
            <a:ext cx="86882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dled Software for quick configuration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rogramming knowledg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le to access to all Agilent USB Modular Data Acquisition and USB Modular Instruments hardware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ogger function allows users to log the SCPI command sequence and the time command is exec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Generator utility allows users to convert the logged SCPI commands to VEE8.5, Visual Basic/C++ and C#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F6D535E8-37D4-49C0-805D-CDA2B756DC4B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mmand Logger – Available in AMM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1"/>
          <a:stretch/>
        </p:blipFill>
        <p:spPr>
          <a:xfrm>
            <a:off x="0" y="755640"/>
            <a:ext cx="9144000" cy="435132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9"/>
          <p:cNvSpPr/>
          <p:nvPr/>
        </p:nvSpPr>
        <p:spPr>
          <a:xfrm>
            <a:off x="128520" y="5165640"/>
            <a:ext cx="88106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Command Logger before starting devic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the commands w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device via A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430F0CB0-2AA9-4010-BC53-9F42EF1FD35D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de Converter – Available in AMM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7160" y="4281120"/>
            <a:ext cx="8572320" cy="19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saved command logger file into other langu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onverters avail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lent VEE Code Co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C#/C++/VB Code Co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1"/>
          <a:stretch/>
        </p:blipFill>
        <p:spPr>
          <a:xfrm>
            <a:off x="237960" y="660240"/>
            <a:ext cx="54309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mmand Logger – How to Access?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3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FAA668E4-82CD-4D8F-935B-FC0EE458D1E7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C:\Documents and Settings\engchneo\Desktop\ScreenHunter_03 Mar. 30 10.17.gif"/>
          <p:cNvPicPr/>
          <p:nvPr/>
        </p:nvPicPr>
        <p:blipFill>
          <a:blip r:embed="rId1"/>
          <a:stretch/>
        </p:blipFill>
        <p:spPr>
          <a:xfrm>
            <a:off x="514440" y="1195560"/>
            <a:ext cx="8048520" cy="4162320"/>
          </a:xfrm>
          <a:prstGeom prst="rect">
            <a:avLst/>
          </a:prstGeom>
          <a:ln w="0">
            <a:noFill/>
          </a:ln>
        </p:spPr>
      </p:pic>
      <p:sp>
        <p:nvSpPr>
          <p:cNvPr id="276" name="TextBox 8"/>
          <p:cNvSpPr/>
          <p:nvPr/>
        </p:nvSpPr>
        <p:spPr>
          <a:xfrm>
            <a:off x="620640" y="5432400"/>
            <a:ext cx="803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bundled Agilent Measurement Manager Software -&gt; Tools -&gt; Command Lo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de Converter – How to Access?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8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30C5D353-0028-432F-943D-B3F1E89AF6FA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C:\Documents and Settings\engchneo\Desktop\ScreenHunter_05 Mar. 30 10.20.gif"/>
          <p:cNvPicPr/>
          <p:nvPr/>
        </p:nvPicPr>
        <p:blipFill>
          <a:blip r:embed="rId1"/>
          <a:stretch/>
        </p:blipFill>
        <p:spPr>
          <a:xfrm>
            <a:off x="387360" y="903240"/>
            <a:ext cx="5945040" cy="3519360"/>
          </a:xfrm>
          <a:prstGeom prst="rect">
            <a:avLst/>
          </a:prstGeom>
          <a:ln w="0">
            <a:noFill/>
          </a:ln>
        </p:spPr>
      </p:pic>
      <p:sp>
        <p:nvSpPr>
          <p:cNvPr id="281" name="TextBox 6"/>
          <p:cNvSpPr/>
          <p:nvPr/>
        </p:nvSpPr>
        <p:spPr>
          <a:xfrm>
            <a:off x="282600" y="48769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Command Logger Window -&gt; File -&gt; Convert Command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" descr="C:\Documents and Settings\engchneo\Desktop\ScreenHunter_06 Mar. 30 10.21.gif"/>
          <p:cNvPicPr/>
          <p:nvPr/>
        </p:nvPicPr>
        <p:blipFill>
          <a:blip r:embed="rId2"/>
          <a:stretch/>
        </p:blipFill>
        <p:spPr>
          <a:xfrm>
            <a:off x="6610320" y="3921120"/>
            <a:ext cx="2533680" cy="2390760"/>
          </a:xfrm>
          <a:prstGeom prst="rect">
            <a:avLst/>
          </a:prstGeom>
          <a:ln w="0">
            <a:noFill/>
          </a:ln>
        </p:spPr>
      </p:pic>
      <p:sp>
        <p:nvSpPr>
          <p:cNvPr id="283" name="Right Arrow 8"/>
          <p:cNvSpPr/>
          <p:nvPr/>
        </p:nvSpPr>
        <p:spPr>
          <a:xfrm>
            <a:off x="5224320" y="5170320"/>
            <a:ext cx="1165320" cy="544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0099cc"/>
          </a:solidFill>
          <a:ln w="1260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4T03:26:34Z</dcterms:created>
  <dc:creator>Eng Chye NEO</dc:creator>
  <dc:description/>
  <dc:language>en-US</dc:language>
  <cp:lastModifiedBy>Eng Chye NEO</cp:lastModifiedBy>
  <dcterms:modified xsi:type="dcterms:W3CDTF">2009-04-16T06:49:03Z</dcterms:modified>
  <cp:revision>267</cp:revision>
  <dc:subject/>
  <dc:title>USB Modular Product Software Function_Command Logger and Code Converter</dc:title>
</cp:coreProperties>
</file>